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7F4D-3209-46D6-B2C3-439A62C2FA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6335-059B-4A4C-BCB3-E2EA98308E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F621-172F-4A5A-AFCE-6B2F6526EC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E14-F84C-47D8-A434-3986920C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9DF-00D4-4342-A15D-60735CC9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9C68-48E1-4B45-B308-34A7CD37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165-A8D9-4BE8-B343-63B0DA0C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13C-5C5C-41FB-970A-E897E6CD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C87-6DD5-40AF-ABF8-AAFB2100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E82-DE56-4EF0-BE98-BC8B228E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36AD-062A-476A-B69C-BB9C85EA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FC47-0D6A-415A-9012-D0559028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47A-4ADF-4BE9-9C61-CCCD9FCF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954-B8EB-42A6-8F76-762915FD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F50-67BA-47EC-92B8-171E2FFB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3FFF-B47E-41AB-96F2-3B4271A473AC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" descr="0N_)R`RQXD[}`MSVS4%0]2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714680" y="2698920"/>
            <a:ext cx="623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幼圆"/>
                <a:ea typeface="幼圆"/>
              </a:rPr>
              <a:t>15. </a:t>
            </a: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大禹治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324440" y="10382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786040" y="511020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陆桥实验小学    陆宇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1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214720" y="23572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2862720" y="500040"/>
            <a:ext cx="28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继续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治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1571760" y="1928880"/>
            <a:ext cx="556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吸取教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2934000" y="34290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疏导治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2330280" y="3714840"/>
            <a:ext cx="131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421000" y="507204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（疏导、开通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2241720" y="-71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楷体"/>
                <a:ea typeface="楷体"/>
              </a:rPr>
              <a:t>jìx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6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57120" y="1714680"/>
            <a:ext cx="8501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毒蛇猛兽</a:t>
            </a:r>
            <a:r>
              <a:rPr b="0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被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驱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农业生产渐渐</a:t>
            </a:r>
            <a:r>
              <a:rPr b="0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恢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安居乐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114300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驱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3274560" y="29289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（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3658320" y="17859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142920" y="150012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500040" y="15638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大家在被水淹过的土地上耕种，农业生产渐渐恢复了，百姓重新过上了</a:t>
            </a:r>
            <a:r>
              <a:rPr b="0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安居乐业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的生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142920" y="150012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0" y="1357200"/>
            <a:ext cx="857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642960" y="114300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禹离开了家乡，一去就是十三年。这十三年里，他到处奔走，曾经三次路过自己家门口。可是他认为治水要紧，一次也没有走进家门看一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142920" y="150012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0" y="1357200"/>
            <a:ext cx="857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642960" y="114300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禹离开了家乡，一去就是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十三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年。这十三年里，他到处奔走，曾经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三次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路过自己家门口。可是他认为治水要紧，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一次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也没有走进家门看一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23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2247120" y="42876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三过家门而不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57120" y="12873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按照提示，复述故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85840" y="2948040"/>
            <a:ext cx="878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洪水使人们生活痛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鲧用筑坝挡水的办法，没有治好洪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禹治水，三过家门而不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禹用疏通河道的办法，带领人们治好了洪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曲线连接符 8"/>
          <p:cNvCxnSpPr/>
          <p:nvPr/>
        </p:nvCxnSpPr>
        <p:spPr>
          <a:xfrm>
            <a:off x="6714720" y="2857680"/>
            <a:ext cx="8578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6480">
            <a:solidFill>
              <a:srgbClr val="bbe0e3"/>
            </a:solidFill>
            <a:miter/>
            <a:tailEnd len="med" type="arrow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28760" y="1000080"/>
            <a:ext cx="785808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读一读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2000160" y="280512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洪  难  道  灾    认  被  产  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4" descr="t01c54c823b104db13b.jpg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0" y="57168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禹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夏后氏首领、夏朝开国君王。他最卓著的功绩，就是历来被传颂的治理了滔天洪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3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2"/>
          <p:cNvGrpSpPr/>
          <p:nvPr/>
        </p:nvGrpSpPr>
        <p:grpSpPr>
          <a:xfrm>
            <a:off x="642960" y="2071800"/>
            <a:ext cx="3313080" cy="3527280"/>
            <a:chOff x="642960" y="2071800"/>
            <a:chExt cx="3313080" cy="3527280"/>
          </a:xfrm>
        </p:grpSpPr>
        <p:sp>
          <p:nvSpPr>
            <p:cNvPr id="122" name="Rectangle 3"/>
            <p:cNvSpPr/>
            <p:nvPr/>
          </p:nvSpPr>
          <p:spPr>
            <a:xfrm>
              <a:off x="642960" y="207180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"/>
            <p:cNvSpPr/>
            <p:nvPr/>
          </p:nvSpPr>
          <p:spPr>
            <a:xfrm>
              <a:off x="642960" y="386244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"/>
            <p:cNvSpPr/>
            <p:nvPr/>
          </p:nvSpPr>
          <p:spPr>
            <a:xfrm>
              <a:off x="2299320" y="207180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5000760" y="2000160"/>
            <a:ext cx="3311280" cy="3529080"/>
            <a:chOff x="5000760" y="2000160"/>
            <a:chExt cx="3311280" cy="3529080"/>
          </a:xfrm>
        </p:grpSpPr>
        <p:sp>
          <p:nvSpPr>
            <p:cNvPr id="126" name="Rectangle 7"/>
            <p:cNvSpPr/>
            <p:nvPr/>
          </p:nvSpPr>
          <p:spPr>
            <a:xfrm>
              <a:off x="5000760" y="2000160"/>
              <a:ext cx="3311280" cy="3529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5000760" y="3791880"/>
              <a:ext cx="33112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6656400" y="2000160"/>
              <a:ext cx="0" cy="35290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0"/>
          <p:cNvSpPr/>
          <p:nvPr/>
        </p:nvSpPr>
        <p:spPr>
          <a:xfrm>
            <a:off x="539640" y="1773360"/>
            <a:ext cx="3816360" cy="390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洪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000760" y="1643040"/>
            <a:ext cx="3744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难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1436040" y="4287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左窄右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2"/>
          <p:cNvGrpSpPr/>
          <p:nvPr/>
        </p:nvGrpSpPr>
        <p:grpSpPr>
          <a:xfrm>
            <a:off x="755640" y="2187720"/>
            <a:ext cx="3313080" cy="3527280"/>
            <a:chOff x="755640" y="2187720"/>
            <a:chExt cx="3313080" cy="3527280"/>
          </a:xfrm>
        </p:grpSpPr>
        <p:sp>
          <p:nvSpPr>
            <p:cNvPr id="134" name="Rectangle 3"/>
            <p:cNvSpPr/>
            <p:nvPr/>
          </p:nvSpPr>
          <p:spPr>
            <a:xfrm>
              <a:off x="755640" y="218772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"/>
            <p:cNvSpPr/>
            <p:nvPr/>
          </p:nvSpPr>
          <p:spPr>
            <a:xfrm>
              <a:off x="755640" y="397836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5"/>
            <p:cNvSpPr/>
            <p:nvPr/>
          </p:nvSpPr>
          <p:spPr>
            <a:xfrm>
              <a:off x="2412000" y="218772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5072040" y="2214720"/>
            <a:ext cx="3311640" cy="3528720"/>
            <a:chOff x="5072040" y="2214720"/>
            <a:chExt cx="3311640" cy="3528720"/>
          </a:xfrm>
        </p:grpSpPr>
        <p:sp>
          <p:nvSpPr>
            <p:cNvPr id="138" name="Rectangle 7"/>
            <p:cNvSpPr/>
            <p:nvPr/>
          </p:nvSpPr>
          <p:spPr>
            <a:xfrm>
              <a:off x="5072040" y="2214720"/>
              <a:ext cx="3311640" cy="3528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5072040" y="4006080"/>
              <a:ext cx="331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6727680" y="2214720"/>
              <a:ext cx="0" cy="352872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0"/>
          <p:cNvSpPr/>
          <p:nvPr/>
        </p:nvSpPr>
        <p:spPr>
          <a:xfrm>
            <a:off x="755640" y="174132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被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5143680" y="1928880"/>
            <a:ext cx="3744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认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610640" y="292896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0000"/>
                </a:solidFill>
                <a:latin typeface="楷体"/>
                <a:ea typeface="楷体"/>
              </a:rPr>
              <a:t>丿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5865120" y="200016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0" spc="-1" strike="noStrike">
                <a:solidFill>
                  <a:srgbClr val="ff0000"/>
                </a:solidFill>
                <a:latin typeface="楷体"/>
                <a:ea typeface="楷体"/>
              </a:rPr>
              <a:t>丿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4450680" y="5875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主动避让有礼貌，巧妙穿插很友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7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2"/>
          <p:cNvGrpSpPr/>
          <p:nvPr/>
        </p:nvGrpSpPr>
        <p:grpSpPr>
          <a:xfrm>
            <a:off x="785880" y="2214720"/>
            <a:ext cx="3313080" cy="3527280"/>
            <a:chOff x="785880" y="2214720"/>
            <a:chExt cx="3313080" cy="3527280"/>
          </a:xfrm>
        </p:grpSpPr>
        <p:sp>
          <p:nvSpPr>
            <p:cNvPr id="148" name="Rectangle 3"/>
            <p:cNvSpPr/>
            <p:nvPr/>
          </p:nvSpPr>
          <p:spPr>
            <a:xfrm>
              <a:off x="785880" y="221472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4"/>
            <p:cNvSpPr/>
            <p:nvPr/>
          </p:nvSpPr>
          <p:spPr>
            <a:xfrm>
              <a:off x="785880" y="400536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2442240" y="221472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6"/>
          <p:cNvGrpSpPr/>
          <p:nvPr/>
        </p:nvGrpSpPr>
        <p:grpSpPr>
          <a:xfrm>
            <a:off x="5143680" y="2286000"/>
            <a:ext cx="3311280" cy="3529080"/>
            <a:chOff x="5143680" y="2286000"/>
            <a:chExt cx="3311280" cy="3529080"/>
          </a:xfrm>
        </p:grpSpPr>
        <p:sp>
          <p:nvSpPr>
            <p:cNvPr id="152" name="Rectangle 7"/>
            <p:cNvSpPr/>
            <p:nvPr/>
          </p:nvSpPr>
          <p:spPr>
            <a:xfrm>
              <a:off x="5143680" y="2286000"/>
              <a:ext cx="3311280" cy="3529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>
              <a:off x="5143680" y="4077720"/>
              <a:ext cx="33112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>
              <a:off x="6799320" y="2286000"/>
              <a:ext cx="0" cy="35290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0"/>
          <p:cNvSpPr/>
          <p:nvPr/>
        </p:nvSpPr>
        <p:spPr>
          <a:xfrm>
            <a:off x="684360" y="178596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产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5072040" y="2098800"/>
            <a:ext cx="3745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业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714240" y="500040"/>
            <a:ext cx="400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找主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5160240" y="3071880"/>
            <a:ext cx="3228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0" spc="-1" strike="noStrike">
                <a:solidFill>
                  <a:srgbClr val="ff0000"/>
                </a:solidFill>
                <a:latin typeface="楷体"/>
                <a:ea typeface="楷体"/>
              </a:rPr>
              <a:t>一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 rot="376800">
            <a:off x="835200" y="326052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0000"/>
                </a:solidFill>
                <a:latin typeface="楷体"/>
                <a:ea typeface="楷体"/>
              </a:rPr>
              <a:t>丿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8" descr="0N_)R`RQXD[}`MSVS4%0]2O.jpg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"/>
          <p:cNvGrpSpPr/>
          <p:nvPr/>
        </p:nvGrpSpPr>
        <p:grpSpPr>
          <a:xfrm>
            <a:off x="2786040" y="1071720"/>
            <a:ext cx="3313080" cy="3527280"/>
            <a:chOff x="2786040" y="1071720"/>
            <a:chExt cx="3313080" cy="3527280"/>
          </a:xfrm>
        </p:grpSpPr>
        <p:sp>
          <p:nvSpPr>
            <p:cNvPr id="162" name="Rectangle 3"/>
            <p:cNvSpPr/>
            <p:nvPr/>
          </p:nvSpPr>
          <p:spPr>
            <a:xfrm>
              <a:off x="2786040" y="107172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"/>
            <p:cNvSpPr/>
            <p:nvPr/>
          </p:nvSpPr>
          <p:spPr>
            <a:xfrm>
              <a:off x="2786040" y="286236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"/>
            <p:cNvSpPr/>
            <p:nvPr/>
          </p:nvSpPr>
          <p:spPr>
            <a:xfrm>
              <a:off x="4442400" y="107172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0"/>
          <p:cNvSpPr/>
          <p:nvPr/>
        </p:nvSpPr>
        <p:spPr>
          <a:xfrm>
            <a:off x="2928960" y="714240"/>
            <a:ext cx="37861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道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9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2"/>
          <p:cNvGrpSpPr/>
          <p:nvPr/>
        </p:nvGrpSpPr>
        <p:grpSpPr>
          <a:xfrm>
            <a:off x="3000240" y="1214280"/>
            <a:ext cx="3313080" cy="3527640"/>
            <a:chOff x="3000240" y="1214280"/>
            <a:chExt cx="3313080" cy="3527640"/>
          </a:xfrm>
        </p:grpSpPr>
        <p:sp>
          <p:nvSpPr>
            <p:cNvPr id="168" name="Rectangle 3"/>
            <p:cNvSpPr/>
            <p:nvPr/>
          </p:nvSpPr>
          <p:spPr>
            <a:xfrm>
              <a:off x="3000240" y="1214280"/>
              <a:ext cx="3313080" cy="3527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"/>
            <p:cNvSpPr/>
            <p:nvPr/>
          </p:nvSpPr>
          <p:spPr>
            <a:xfrm>
              <a:off x="3000240" y="300528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"/>
            <p:cNvSpPr/>
            <p:nvPr/>
          </p:nvSpPr>
          <p:spPr>
            <a:xfrm>
              <a:off x="4656600" y="1214280"/>
              <a:ext cx="0" cy="352764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0"/>
          <p:cNvSpPr/>
          <p:nvPr/>
        </p:nvSpPr>
        <p:spPr>
          <a:xfrm>
            <a:off x="3112920" y="71424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灾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4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357120" y="210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拓展阅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642960" y="1000080"/>
            <a:ext cx="7786800" cy="226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大禹治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很久很久以前，滔滔的洪水淹没了农田，冲倒了房屋，害得老百姓无家可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禹下决心要治理洪水。他吃尽了千辛万苦，走遍了千山万水，仔细地察看水流和地形。他带领老百姓挖通了九条大河，劈开了九座大山，引导洪水流入了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禹在外治水</a:t>
            </a:r>
            <a:r>
              <a:rPr b="0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13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年，曾经三次路过自己的家门，但他一次也没有进去看一看，禹的儿子十多岁了，还不知道父亲是个什么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洪水被制服了，老百姓过上了安定的日子，大家非常感激这位治水的伟大英雄。从此，大禹的名字代代相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3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478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陆宇慧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8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928800" y="30718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42960" y="1571760"/>
            <a:ext cx="442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洪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528920" y="157176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4304880" y="157176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泛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654560" y="85716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ó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3052440" y="4000680"/>
            <a:ext cx="172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海、流、治、淹、没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7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139920" y="23050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1571760" y="1000080"/>
            <a:ext cx="607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形标注 4"/>
          <p:cNvSpPr/>
          <p:nvPr/>
        </p:nvSpPr>
        <p:spPr>
          <a:xfrm>
            <a:off x="3643200" y="428760"/>
            <a:ext cx="4643640" cy="2071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"/>
                <a:ea typeface="楷体"/>
              </a:rPr>
              <a:t>联系下文，我知道“泛滥”的意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85840" y="3200400"/>
            <a:ext cx="85010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大水淹没了田地，冲毁了房屋，毒蛇猛兽到处伤害百姓和牲畜，人们的生活痛苦极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A:\滔滔洪水图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139920" y="23050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285920" y="1000080"/>
            <a:ext cx="6286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毒蛇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猛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兽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无数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灾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688480" y="3929040"/>
            <a:ext cx="365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水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火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自然灾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142920" y="1357200"/>
            <a:ext cx="8715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大水淹没了田地，冲毁了房屋，毒蛇猛兽到处伤害百姓和牲畜，人们的</a:t>
            </a: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生活痛苦极了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4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3139920" y="23050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214200" y="1500120"/>
            <a:ext cx="850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只知道筑坝挡水  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仍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然没有消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214720" y="17146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14200" y="1808280"/>
            <a:ext cx="850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挡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"/>
          <p:cNvSpPr/>
          <p:nvPr/>
        </p:nvSpPr>
        <p:spPr>
          <a:xfrm>
            <a:off x="3357720" y="2357280"/>
            <a:ext cx="142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"/>
                <a:ea typeface="楷体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3388680" y="350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（阻挡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_</cp:lastModifiedBy>
  <dcterms:modified xsi:type="dcterms:W3CDTF">2017-08-22T05:47:43Z</dcterms:modified>
  <cp:revision>1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